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BBF3BA-99E2-4B3F-8341-B46143430A6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BFCAC4-5B92-4821-BF07-AF8FF711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9D6E42-C9D7-437F-AC80-811D29EC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C7CC4-C6C7-4F2B-9718-CFE8A042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6EEA3-9B1B-4726-9BAD-BD06B327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CA2CB9-103C-4327-B202-895D47C2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34A79-DF58-4F08-97C7-9E661FA5E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B98607-B73A-4B53-8BA5-4E3F545F7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02C583-F3FA-4544-8983-D9C076405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50330E-1B7B-4E87-B540-2CDE081CF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6D1981-4EAA-46CC-84DF-5ABFF182A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3A70BA-094B-4CA5-8B60-E25872C92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83A8-192C-44AA-BC8B-4DF6080AB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5727-7C62-4193-89A7-2BB6591759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4F9F-495A-4CA1-93E0-B6F102922E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0656-1692-4074-BD47-2690BF7470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BAE6-15D6-43B8-878B-8D957DF239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79A1-E8F0-497D-8363-58D7403670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5439-B5E4-46BE-A3E3-0A2D8EC15F3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83E6-E697-4C3D-B88D-26C33D4BC2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BD40-3769-469E-9AEC-76C1B1E988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56EE-7595-44BA-AF3F-9AA68B2E34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B7DF-B4F3-4098-B44E-2F29FEF966A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F9395-6D9C-4A87-BE8D-D28185A90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14F3-8EC8-4138-A7EB-0CC2EB7870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03CDB-A94E-435A-A3A7-37BC62790B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2B949-FE6A-40A5-B27F-1285257973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B2788-85B6-4353-9207-7298718655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2D38A-AA28-4AA1-8031-7554DC2ED7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EF13A-FDC2-40CD-B8DF-AAA03BC8643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78774-AD30-445A-A5D0-95410D5BA0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6EDA2-823D-4A03-BF4E-331B8A5DF6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9DCA3-4342-492E-8BEF-7DEDEE7529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741AD-6F2F-4AF1-A2E1-60BAE17177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361FF-9CA2-47DE-BB9F-3DD67D092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943B-DEB7-4775-9099-B561EBB577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22BF4-75A2-42C9-81ED-BC7A1C781C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F00D8-CB1C-473F-8747-96E1A83C9B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6B10C-4C71-455F-8876-BB534D12B6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C7457-90BA-4ABC-8DB1-AE11104984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7493E-99DA-4A55-A098-3503880E93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E5C0F-24F4-4127-8F7E-F6DD8DBF02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140A7-417A-49B3-ADF9-57D2602E4A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448E3-22E3-4FE1-A06A-7BD1C14C8C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E3596-815D-476D-9FFF-DD3F7166CC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0A12D-30D6-4266-98CE-4E6B99252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9D6A-67C5-4607-9862-F705279BD2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0479C-D1CF-4688-BCB3-37D1C0883AB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DC1EA-E2D9-48C9-AC33-C61B107063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E5DB5-946E-4611-8C83-667905A134A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48F4-1E53-4001-A41D-DDAD08C017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E17F-C514-47D4-907C-684D8D0878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8A2C-4F11-48A6-918E-C2BB2F56F8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E9AC-0131-4362-BC16-315B55DB15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5EE1-E4B6-4CCD-86B2-027535BBB2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B8BE-98A7-460A-B784-B5A25F19DA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DF87-E8B9-4605-AF13-8B4F003946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683C-0065-4551-BDD5-A291D1C0DB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8A1E-4BF6-496A-926C-72E25C35D0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4910F-4930-4A8C-B0F8-E27AF9D1DB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BB5A-69DE-4A0F-98B1-5F67B8603D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E906-F0AE-4FB0-B287-BCD350F854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7FB8-5AF5-4599-8588-DA42F6809E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8D667-4A86-43A4-98C6-D590F901A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A647E-8974-4D3F-B27C-941D629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8693F-59DF-4275-BF97-C34C098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C183D-7A7B-44E3-AE81-0D1C1DF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13775-BAC8-4266-B397-5F039AA9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7921-E9A4-4476-97F3-FEC1F491548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1DAA3-582F-40F6-ACAA-CCD64DF7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FFDB5-97AD-4788-BE24-DC959E6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4A07C-9FDC-4C63-8532-CEAD6140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27EC1-917A-49CE-BE82-E97321B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77F53-8467-4532-8B24-1FAE5C0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C5802-6923-418D-B094-402B723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9EFA9-069F-49B5-98D3-610C9A1C6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7323-0FCD-47F3-B4C8-A3B5C1BB8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68E8-9091-4859-B6B9-E764E79078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1161-FE00-4611-9D0A-D6D5C16923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6C15-D699-4381-A9F6-8F9B4F377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EBB3-5D1E-47C3-A8D8-90C2DDC88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58EE-7F2B-4C35-B7B5-EE5AE2AB5F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97C2-05B8-49F7-A8E3-A8E918CA53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40EE-8130-4CEB-BC06-6B0C166AFD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6EAC-25C0-4744-99E6-EF37505676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B0F6-8BA0-4B00-B140-5BC550332E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FB7-9343-4293-B2C9-33F74A1DA3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DE7-090E-41A8-B8C6-711A426697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3F2-BFC6-423B-8426-1D89460729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855-064E-4E9B-95EF-F365A70B4B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8ED-28A8-4AFE-B4F3-809857065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33A5-42B0-4CC8-9D3C-E46E56F64A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F31-65FD-4421-BD3A-8094576E8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D60-706F-4537-832F-8E46673F8C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F1A-6B6D-45FD-9A66-5200478B42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4BC-D1FC-42C6-83D6-D5C15632E0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301-2114-4F38-A548-4A7CCBEA2E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93B-B096-41BC-B346-952B2875AA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B16-EFD0-445E-8D96-40E359BA8B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05B3-E63D-4398-B371-E3AAB3BCB9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97A4-982E-4800-9CA7-B384F9E76F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05CB-BC15-45AD-A2D2-823795CC1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6E13-6C1A-4C31-BF7E-0B9E129B45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C68D5-57F8-4A1B-9909-CB866F29B9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1CE9-A8CB-4B88-9910-8CABB58284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956BD-8536-4321-9F4B-0941E42829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FF1C1-2792-4AD1-988B-AED951D3CD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D9FB6-38C7-4AE3-85D3-2F94E0458B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33FAC-3E9D-400E-8E97-889602E36F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8A75-6FC4-4339-8F73-E6264AEBC0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ED256-5C30-4616-B4F6-49105A1AC7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890B9-4424-46CA-B26C-C8F7DB0D85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8CBDA-D556-4EEA-9706-44A99A4A9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ACEC-1ECF-40A3-8C79-5D7DDB6447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7BF0-D1AA-41C9-8122-BDFDB585E6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5382-EE2A-4010-8345-4894CF90DF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9E092-648E-466A-B523-4EF3E1E4F5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C0AE9-D3E4-43AB-B4ED-71EC06819F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0FAA7-8F73-473D-A5BA-10DC947744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D316-DE06-4A57-AF1A-8BB5CA6385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B13D-A021-48AA-98A1-E3DF40DC58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07868-4578-4DF2-B356-8AA63943B2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88241-B1D6-4208-BC92-49EA68A3D5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13661-F0DD-4BD6-A821-BDA238AED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4551-C5CB-42E1-A377-6F514FE2CE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99A8B-2AF2-4A57-9878-FA29BFD3B8E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B721-B788-4A84-AC79-E1E1ED0DB5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4544-9045-482E-81D6-9BECD5C95B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7CC8-F0D7-4A25-8876-6ED57C2C02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79CC-A0BE-4351-A9CD-1380CDC151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8894-194D-46D2-B3F2-CE5C8F2577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1A1-58DC-4391-ACC5-14F4AEE650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CB1-9604-4C3B-9EF7-C1125692B6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7F03-F0FA-42B6-B108-DD3ECCA75F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0504-0871-43C1-BD4D-B6F5F4C52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6D4E-D22C-4572-9BE6-4C8216573E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26D-66B9-4765-B80B-4BE42E9754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C4F4-8E20-4B81-AB71-08E4249C45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230-CE26-4EB0-9021-7E184874AC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DC2EE-03EB-40DB-84BA-D342EEB99F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2E917-BF4F-461A-B42C-F43DCED22A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C7677-2DE9-4433-BB6D-FC93A7DC20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2F938-6370-4883-A176-89CAD56191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B14D0-26ED-4F5C-A371-2292CBFB80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2FF5F-A666-40B0-813A-E711EC8B7F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0073E-6502-4009-BFF7-4874501F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63A1-1536-4894-80F9-11A9C02F64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14EF2-953F-475B-AA37-83B06421F0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FC357-E1CF-415E-AADB-BF7EE7828C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1B4EE-5FAD-4B45-89BD-DBD9008A6B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85A7D-D84D-440B-8A25-FC507B504F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A0AD8-E6C4-4DD8-B198-9000262959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46C64-8B05-4A37-8ADF-3A2A53E938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E0432-49BD-49FE-9A7B-42697D70BE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5682F-AC74-4949-B4A2-46B6CEAE38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7C955-71D1-461B-8B49-5C7DB9F527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C352D-B0D3-4CF6-A412-B0087FD63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93FF-E83E-42A1-81F1-3DE0D7255D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FA684-5DAF-45B6-97F0-3C2AC72650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91203-E99D-4169-BD19-8FD9F23EC83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8F33-C6A5-4E09-B5C0-8563FB48F8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8318C-EB15-4C6C-AA6D-D2CD76A5E9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6FDB1-2040-43F3-9A7A-38CE32657E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47A4C-F2AF-42D9-B16C-79543D087A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BBBC9-ACBB-470D-9C45-67B0B40692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01A6-4ED3-4D38-970B-A1D63AE0BA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7162-9032-46ED-A32E-43B736C2FB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BEC4-86DC-4758-BD98-32319733F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25807A-7DCE-474F-B4A4-64C0E428492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A0568-8FB5-4960-B285-7F28148ED43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511E3-C89D-4E42-9E31-04C62051375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F706DF-5D87-4E4D-92F5-BBC3AFA8550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364A29-52D6-4DC3-8AF0-9C3882097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697065-040B-427E-B1B0-F46D44C475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E0B6A1-99E3-4BF6-ACD6-F25D9E0F158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D6048-A1D4-4FC9-839B-AD3592C2EA4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353661-4AE3-4D6E-9A11-950CC7262C1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3A085-631C-420C-AB03-605AA4B00EE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A18DFD-D40C-44A7-8E86-D2AB8DE869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55E85-0E1F-4E11-9E30-A36EDA5C1CC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214DA8-402A-4E31-88DE-00377547F9E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1:30Z</dcterms:modified>
  <cp:revision>159</cp:revision>
  <dc:subject/>
  <dc:title>Παρουσίαση του PowerPoint</dc:title>
</cp:coreProperties>
</file>